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89A1-C7CB-418D-87B4-271424B64E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Death / The Plagu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798F-1C40-4A5C-8C79-FA28FF97D7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CD91-DA1D-4ADB-A4E1-C7062CB6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9D6B-A538-4A46-8C7A-A958F711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DCD1-742B-4A58-8DFA-D825CB19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6F2-BC64-4BA0-8273-2FFE549C2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2A18-ADB9-406A-B78F-555A37F1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241C-1EA5-4351-9A34-6D62B30C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4426-95DE-41F2-B49B-D18DD0E5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32C-C890-429E-B989-4CA4F17D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E9E-720F-4BCB-A321-77C85274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B5E-0A3C-49BC-9056-CD6502B1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B51-D36B-4CB9-9DF7-51603E23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C09-40BD-4F89-9533-FFDF0409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8E4B-AAF3-4C09-91B7-5BDEA022B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4" descr=""/>
          <p:cNvPicPr/>
          <p:nvPr/>
        </p:nvPicPr>
        <p:blipFill>
          <a:blip r:embed="rId1"/>
          <a:srcRect l="16346" t="9746" r="31733" b="266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hy has our population grown so much since 1800's? (WHY more bab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895480" y="5486400"/>
            <a:ext cx="243864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9"/>
          <p:cNvCxnSpPr/>
          <p:nvPr/>
        </p:nvCxnSpPr>
        <p:spPr>
          <a:xfrm flipH="1">
            <a:off x="5866560" y="3200040"/>
            <a:ext cx="2210760" cy="2591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TextBox 7"/>
          <p:cNvSpPr/>
          <p:nvPr/>
        </p:nvSpPr>
        <p:spPr>
          <a:xfrm>
            <a:off x="7162920" y="225252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y do you think there was a dip in the population?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19:30Z</dcterms:created>
  <dc:creator>User</dc:creator>
  <dc:description/>
  <dc:language>en-US</dc:language>
  <cp:lastModifiedBy>User</cp:lastModifiedBy>
  <dcterms:modified xsi:type="dcterms:W3CDTF">2009-12-07T14:23:05Z</dcterms:modified>
  <cp:revision>1</cp:revision>
  <dc:subject/>
  <dc:title>Slide 1</dc:title>
</cp:coreProperties>
</file>